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11DBE-A162-4F0F-8F44-E376005301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1A3A5-2B1A-470A-9016-39A796ABB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8E810-BB3B-4B54-9F34-E5355393A2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21F1-21E0-487A-91AE-D0E9BAA8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9C2-D31B-4DCE-888B-4006F96A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48B4-C23E-41D8-8F5B-DC415A22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8C67-33D1-45E3-B317-F29E62352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A359-9264-4A43-B815-69016E45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75F6-DFCD-4495-BD71-B97C385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31D9-7370-491F-8D8F-33373C39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B673-5D09-4C51-9A41-42C145AC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411-62E2-4F6A-B4BD-F9DF038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254-734A-413A-BFAC-6FB731CF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CE1-598C-4AD7-A8FA-84C9FA6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E9A-D4D6-416B-A7B8-33A8A041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CF83C-DCB2-4CE1-B5EA-C17493B11A29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C2AAF0-F473-465B-A069-A9108D90D10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</a:t>
            </a: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American Li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definit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refers to a person, place, or thing that may or may not be specifically name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lthough indefinite pronouns do not require specific antecedents, they often have the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no 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everal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have visited Williamsburg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specific: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of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 prepared a repor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ndefinit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5800" y="1905120"/>
          <a:ext cx="8001000" cy="4336920"/>
        </p:xfrm>
        <a:graphic>
          <a:graphicData uri="http://schemas.openxmlformats.org/drawingml/2006/table">
            <a:tbl>
              <a:tblPr/>
              <a:tblGrid>
                <a:gridCol w="3186000"/>
                <a:gridCol w="2148120"/>
                <a:gridCol w="2666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ngular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ther, anybody, anyone, anything, each, either, everybody, everyone, everything, little, much, neither, nobody, no one, nothing, one, other, somebody, someone, someth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w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ve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ronouns and Anteced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Pronoun: a word that takes the place of a noun, another pronoun, or a group of words functioning as a nou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Antecedent: noun, pronoun, or group of words functioning as a  noun to which a pronoun refer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: </a:t>
            </a:r>
            <a:r>
              <a:rPr b="0" lang="en-US" sz="30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Michael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said he lost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hi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watch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 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: Going to classes might keep you busy, but </a:t>
            </a:r>
            <a:r>
              <a:rPr b="0" i="1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it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 is necessary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ronouns commonly used to refer to particular people, places, and thing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 speaking (first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 spoken to (second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person, place, or thing spoken about (third person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Personal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905120"/>
          <a:ext cx="8229600" cy="2879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I, me, my,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we, us, our,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, your, y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e, him, his, she, her, hers, it, i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y, them, their, thei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: ends in –self or –selves and indicates that someone or something in the sentence acts for or on itself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599840"/>
            <a:ext cx="40384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: ends in –self or –selves and simply adds emphasis to a noun or pronoun in the same sentenc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447920" y="4495680"/>
          <a:ext cx="6095880" cy="18892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First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my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our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Second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your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rd Pers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himself, herself, itsel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mselv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Reflexive and Intensive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Garamond"/>
                <a:ea typeface="Garamond"/>
              </a:rPr>
              <a:t>pronoun exampl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Reflexiv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e basketball players won the game not only for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themselves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, but for the entire sch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I helped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my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to a large serving of turkey at the Thanksgiving fea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Garamond"/>
              </a:rPr>
              <a:t>Intensiv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Harriet Beecher Stowe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er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helped slaves escape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Captain Smith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imself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earned his captors’ respec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Demonstrative Pronoun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directs attention to a specific person, place, or th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a beautifu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city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i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i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homewor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for ton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os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puzzl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that are difficul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These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are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student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that were runn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23880" y="5334120"/>
          <a:ext cx="6096240" cy="792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Sin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Plu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is, tha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ese, tho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Relativ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introduces an adjective clause and connects it to the word that the clause modifie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relates one idea in a sentence to anothe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Examples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  <a:ea typeface="Garamond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We read a book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at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contained an account of the settlers’ experience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The settlers </a:t>
            </a:r>
            <a:r>
              <a:rPr b="0" i="1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who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  <a:ea typeface="Garamond"/>
              </a:rPr>
              <a:t> had written it described their hardship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3124080"/>
          <a:ext cx="6096240" cy="743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aramond"/>
                          <a:ea typeface="Garamond"/>
                        </a:rPr>
                        <a:t>Relative Pronou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aramond"/>
                          <a:ea typeface="Garamond"/>
                        </a:rPr>
                        <a:t>that          which          who          whom          wh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  <a:ea typeface="Garamond"/>
              </a:rPr>
              <a:t>Interrogative Pronou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used to begin a ques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sometimes the antecedent of an interrogative pronoun is unknow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won the game last night? 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  <a:ea typeface="Garamond"/>
              </a:rPr>
              <a:t>unknown anteced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Wha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was th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  <a:ea typeface="Garamond"/>
              </a:rPr>
              <a:t>nam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Garamond"/>
              </a:rPr>
              <a:t> of your first p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295280" y="2590920"/>
          <a:ext cx="6096240" cy="7426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rogative Pronou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hat          which          who          whom        who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5:01:05Z</dcterms:created>
  <dc:creator>ndadmin</dc:creator>
  <dc:description/>
  <dc:language>en-US</dc:language>
  <cp:lastModifiedBy>Katherine Hausauer</cp:lastModifiedBy>
  <cp:lastPrinted>2008-10-29T18:50:08Z</cp:lastPrinted>
  <dcterms:modified xsi:type="dcterms:W3CDTF">2010-12-06T15:51:06Z</dcterms:modified>
  <cp:revision>7</cp:revision>
  <dc:subject/>
  <dc:title>Pronouns American Lit</dc:title>
</cp:coreProperties>
</file>